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6002000" cy="11314113"/>
  <p:notesSz cx="14101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897D-CBA6-4A53-9C4C-5AC95F63A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3E10-7385-4B3A-B955-35938B52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1BE0-212C-4B25-AC1C-EFF5E8117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8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397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0024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98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397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3476-2AC5-4E9C-960B-C9270CADE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265B-1B1F-4485-B759-3D617B77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4578-A421-4611-9FCA-89E19D82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5134-3BAE-4C4B-91CE-044ACE3E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1771-FF00-4AF6-B493-05E17BD2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00240" y="1006200"/>
            <a:ext cx="1360152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122A-80E6-41C9-9E17-BABD9849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F1D5-F661-4D7C-9FBC-B0533E3E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65A9-A354-40B8-BD37-8DF83D92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F113-249F-41CB-AC76-2805847D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96000"/>
          </a:bodyPr>
          <a:p>
            <a:pPr marL="561960" indent="-5619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1" marL="1217520" indent="-46728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2" marL="187308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3" marL="262260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4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5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6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024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67320" y="10308960"/>
            <a:ext cx="506736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46816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fld id="{62E614C8-D667-4876-939D-C6236CAABA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15011280" cy="10515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98600" y="524160"/>
            <a:ext cx="1633320" cy="2246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siliul Judeţean Vâlc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72400" y="919440"/>
            <a:ext cx="1504800" cy="2246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OLEGIUL DIRE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2" idx="2"/>
            <a:endCxn id="43" idx="0"/>
          </p:cNvCxnSpPr>
          <p:nvPr/>
        </p:nvCxnSpPr>
        <p:spPr>
          <a:xfrm>
            <a:off x="8515080" y="748800"/>
            <a:ext cx="10080" cy="17100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5" name=""/>
          <p:cNvSpPr/>
          <p:nvPr/>
        </p:nvSpPr>
        <p:spPr>
          <a:xfrm>
            <a:off x="7562880" y="1285560"/>
            <a:ext cx="1905120" cy="346680"/>
          </a:xfrm>
          <a:prstGeom prst="rect">
            <a:avLst/>
          </a:prstGeom>
          <a:solidFill>
            <a:srgbClr val="ebeb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ţia Generală de Asistenţă Socială şi Protecţia Copilului - Vâlc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3" idx="2"/>
            <a:endCxn id="45" idx="0"/>
          </p:cNvCxnSpPr>
          <p:nvPr/>
        </p:nvCxnSpPr>
        <p:spPr>
          <a:xfrm flipH="1">
            <a:off x="8515440" y="1144080"/>
            <a:ext cx="9720" cy="14184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7734240" y="1751400"/>
            <a:ext cx="1562040" cy="37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IRECTOR EXECUTIV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0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5" idx="2"/>
            <a:endCxn id="47" idx="0"/>
          </p:cNvCxnSpPr>
          <p:nvPr/>
        </p:nvCxnSpPr>
        <p:spPr>
          <a:xfrm flipH="1">
            <a:off x="8515080" y="1632240"/>
            <a:ext cx="720" cy="11952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5391000" y="903960"/>
            <a:ext cx="1447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MISIA DE EXPERTIZĂ persoane adulte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1"/>
            <a:endCxn id="49" idx="0"/>
          </p:cNvCxnSpPr>
          <p:nvPr/>
        </p:nvCxnSpPr>
        <p:spPr>
          <a:xfrm flipV="1" rot="10800000">
            <a:off x="6114600" y="636120"/>
            <a:ext cx="1584000" cy="26784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10344240" y="919800"/>
            <a:ext cx="14475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MISIA PENTRU PROTECŢIA 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42" idx="3"/>
            <a:endCxn id="51" idx="0"/>
          </p:cNvCxnSpPr>
          <p:nvPr/>
        </p:nvCxnSpPr>
        <p:spPr>
          <a:xfrm>
            <a:off x="9331920" y="636480"/>
            <a:ext cx="1736280" cy="28368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4724280" y="2479680"/>
            <a:ext cx="2133720" cy="468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3333cc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de Protectie a Copilulu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Adjunct -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877240" y="2440080"/>
            <a:ext cx="2286000" cy="5900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8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de A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sistenţă Soci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Adjunct -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030200" y="2446920"/>
            <a:ext cx="1905120" cy="621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66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Econom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Adjunct Economic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00240" y="3113280"/>
            <a:ext cx="1523880" cy="68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evaluare, monitorizare, strategii, programe, proiecte în domeniul asistenţei sociale şi protecţia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00240" y="396792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audit inte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00240" y="450144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Birou Resurse Uma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 / 1 /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00240" y="495864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Juridic Contenc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00240" y="5415840"/>
            <a:ext cx="152388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Mass-Media 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şi relaţii cu publicu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594900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PM - P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3047760" y="4267080"/>
            <a:ext cx="194328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Secretariat Comisie pentru Protectia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3860640" y="4267080"/>
            <a:ext cx="194328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evaluare, testare, pregătire, monitorizare Asistenti Maternali Profesioni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532116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protecţie de tip rezidenţ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  / 1 /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460044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iompartiment  pentru îngrijire de tip famil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în domeniul protecţiei copilulu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60004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aisitenţă şi sprijin pentru protecţia şi promovarea drepturilor copilului - Birouri Zon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16200000">
            <a:off x="66862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evaluare complexă a copilului cu dizabilităţ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0 / 1 /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53" idx="2"/>
            <a:endCxn id="62" idx="3"/>
          </p:cNvCxnSpPr>
          <p:nvPr/>
        </p:nvCxnSpPr>
        <p:spPr>
          <a:xfrm rot="5400000">
            <a:off x="4588200" y="2378880"/>
            <a:ext cx="633600" cy="17719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53" idx="2"/>
            <a:endCxn id="63" idx="3"/>
          </p:cNvCxnSpPr>
          <p:nvPr/>
        </p:nvCxnSpPr>
        <p:spPr>
          <a:xfrm rot="5400000">
            <a:off x="4994640" y="2785320"/>
            <a:ext cx="633600" cy="95904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53" idx="2"/>
            <a:endCxn id="64" idx="3"/>
          </p:cNvCxnSpPr>
          <p:nvPr/>
        </p:nvCxnSpPr>
        <p:spPr>
          <a:xfrm flipH="1" rot="16200000">
            <a:off x="5725440" y="3013560"/>
            <a:ext cx="633600" cy="50220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3" idx="2"/>
            <a:endCxn id="65" idx="3"/>
          </p:cNvCxnSpPr>
          <p:nvPr/>
        </p:nvCxnSpPr>
        <p:spPr>
          <a:xfrm rot="5400000">
            <a:off x="5364720" y="3155040"/>
            <a:ext cx="633600" cy="21924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3200400" y="5563080"/>
            <a:ext cx="1828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PIN 5  / 2005 - VL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sistenti maternali profesionisti -</a:t>
            </a:r>
            <a:r>
              <a:rPr b="1" i="1" lang="en-US" sz="1000" spc="-1" strike="noStrike">
                <a:solidFill>
                  <a:srgbClr val="cc0000"/>
                </a:solidFill>
                <a:latin typeface="Arial Narrow"/>
              </a:rPr>
              <a:t> 415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ostu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5944320"/>
            <a:ext cx="198108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ompartimentul evaluare, testare, pregătire Asistenti Maternali Profesioni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6348960"/>
            <a:ext cx="1828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dopţie, post-adopţie, consiliere, monitoriz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65" idx="2"/>
            <a:endCxn id="74" idx="3"/>
          </p:cNvCxnSpPr>
          <p:nvPr/>
        </p:nvCxnSpPr>
        <p:spPr>
          <a:xfrm flipH="1">
            <a:off x="5715000" y="4552920"/>
            <a:ext cx="124200" cy="1893240"/>
          </a:xfrm>
          <a:prstGeom prst="bentConnector3">
            <a:avLst>
              <a:gd name="adj1" fmla="val -188662"/>
            </a:avLst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3886200" y="6553800"/>
            <a:ext cx="1828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lasament familial, consiliere, monitoriz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>
            <a:stCxn id="65" idx="2"/>
            <a:endCxn id="76" idx="3"/>
          </p:cNvCxnSpPr>
          <p:nvPr/>
        </p:nvCxnSpPr>
        <p:spPr>
          <a:xfrm flipH="1">
            <a:off x="5715000" y="4552920"/>
            <a:ext cx="124200" cy="2098080"/>
          </a:xfrm>
          <a:prstGeom prst="bentConnector3">
            <a:avLst>
              <a:gd name="adj1" fmla="val -18866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 rot="16200000">
            <a:off x="1504800" y="7562520"/>
            <a:ext cx="1371600" cy="41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4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8 / 1 / 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62920" y="5731200"/>
            <a:ext cx="22860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nchete sociale, consiliere pentru părinţi şi cop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66" idx="1"/>
            <a:endCxn id="79" idx="1"/>
          </p:cNvCxnSpPr>
          <p:nvPr/>
        </p:nvCxnSpPr>
        <p:spPr>
          <a:xfrm flipH="1" rot="16200000">
            <a:off x="6915960" y="5580720"/>
            <a:ext cx="303840" cy="19116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7162920" y="5955120"/>
            <a:ext cx="24382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regătirea şi sprijinirea integrării-reintegrării copilului în famil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6" idx="1"/>
            <a:endCxn id="81" idx="1"/>
          </p:cNvCxnSpPr>
          <p:nvPr/>
        </p:nvCxnSpPr>
        <p:spPr>
          <a:xfrm flipH="1" rot="16200000">
            <a:off x="6804000" y="5692680"/>
            <a:ext cx="527760" cy="19116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7162920" y="618048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nsiliere, intervenţie până la stabilirea unei măsuri de protecţ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162920" y="640440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Evaluare copil care a săvârşit faptă penală şi nu răspunde pe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62920" y="662976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integrarea si sprijinirea copiilor repatria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66" idx="1"/>
            <a:endCxn id="83" idx="1"/>
          </p:cNvCxnSpPr>
          <p:nvPr/>
        </p:nvCxnSpPr>
        <p:spPr>
          <a:xfrm flipH="1" rot="16200000">
            <a:off x="6691320" y="5805360"/>
            <a:ext cx="753120" cy="191160"/>
          </a:xfrm>
          <a:prstGeom prst="bentConnector4">
            <a:avLst>
              <a:gd name="adj1" fmla="val 43998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66" idx="1"/>
            <a:endCxn id="84" idx="1"/>
          </p:cNvCxnSpPr>
          <p:nvPr/>
        </p:nvCxnSpPr>
        <p:spPr>
          <a:xfrm flipH="1" rot="16200000">
            <a:off x="6579360" y="5917320"/>
            <a:ext cx="977040" cy="191160"/>
          </a:xfrm>
          <a:prstGeom prst="bentConnector4">
            <a:avLst>
              <a:gd name="adj1" fmla="val 45374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66" idx="1"/>
            <a:endCxn id="85" idx="1"/>
          </p:cNvCxnSpPr>
          <p:nvPr/>
        </p:nvCxnSpPr>
        <p:spPr>
          <a:xfrm flipH="1" rot="16200000">
            <a:off x="6466680" y="6030000"/>
            <a:ext cx="1202400" cy="191160"/>
          </a:xfrm>
          <a:prstGeom prst="bentConnector4">
            <a:avLst>
              <a:gd name="adj1" fmla="val 46241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14001840" y="3587040"/>
            <a:ext cx="121896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economic şi financiar-contab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01840" y="4180680"/>
            <a:ext cx="12189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tehnic şi administrati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5 / 1 / 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001840" y="4652280"/>
            <a:ext cx="121896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chiziţii publice şi aprovizion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20920" y="5263200"/>
            <a:ext cx="12189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Informat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55" idx="3"/>
            <a:endCxn id="89" idx="3"/>
          </p:cNvCxnSpPr>
          <p:nvPr/>
        </p:nvCxnSpPr>
        <p:spPr>
          <a:xfrm>
            <a:off x="14935320" y="2757240"/>
            <a:ext cx="285840" cy="104868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55" idx="3"/>
            <a:endCxn id="90" idx="3"/>
          </p:cNvCxnSpPr>
          <p:nvPr/>
        </p:nvCxnSpPr>
        <p:spPr>
          <a:xfrm>
            <a:off x="14935320" y="2757240"/>
            <a:ext cx="285840" cy="158148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55" idx="3"/>
            <a:endCxn id="91" idx="3"/>
          </p:cNvCxnSpPr>
          <p:nvPr/>
        </p:nvCxnSpPr>
        <p:spPr>
          <a:xfrm>
            <a:off x="14935320" y="2757240"/>
            <a:ext cx="285840" cy="211392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6" name=""/>
          <p:cNvCxnSpPr/>
          <p:nvPr/>
        </p:nvCxnSpPr>
        <p:spPr>
          <a:xfrm>
            <a:off x="14935320" y="2743200"/>
            <a:ext cx="295560" cy="2664720"/>
          </a:xfrm>
          <a:prstGeom prst="bentConnector3">
            <a:avLst>
              <a:gd name="adj1" fmla="val 17756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 rot="16200000">
            <a:off x="2000160" y="7524720"/>
            <a:ext cx="137160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45 / 1 / 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2495520" y="7562880"/>
            <a:ext cx="1371600" cy="4190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de servicii soci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a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0 / 2 / 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3790800" y="7486560"/>
            <a:ext cx="137160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tip rezidenţial pentru recuperarea copilului cu dizabilităţ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2 / 1 / 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4390920" y="7495920"/>
            <a:ext cx="1371600" cy="55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Pinocchio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”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 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6  / 1 / 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50101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8 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55 / 1 / 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567684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rezidential de recuperare a tinerilori cu afectiuni neuropsih.  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9 / 1 / 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63817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de servicii comunitare  pentrun copilul cu dizabilita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4 / 1 / 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70675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 11 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 Bistriţ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56 / 1 / 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77533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Adăpost temporar pentru copilul delincvent şi din strad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20 / 1 / 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/>
          <p:nvPr/>
        </p:nvCxnSpPr>
        <p:spPr>
          <a:xfrm rot="5400000">
            <a:off x="4893120" y="5698080"/>
            <a:ext cx="1564200" cy="1293120"/>
          </a:xfrm>
          <a:prstGeom prst="bentConnector3">
            <a:avLst>
              <a:gd name="adj1" fmla="val 84046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 rot="16200000">
            <a:off x="2476440" y="925848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Materna”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udor Vladimiresc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Times New Roman"/>
              </a:rPr>
              <a:t>( 12 / 1 / 11 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3124080" y="914400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asistenţă familială şi comunitară si violenta im famil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3333cc"/>
                </a:solidFill>
                <a:latin typeface="Arial Narrow"/>
              </a:rPr>
              <a:t>( 3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556272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familial pentru copilul cu dizabilităţ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3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617220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pt. Copilul abuzat,neglijat,exploat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3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6819840" y="918216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 de zi de ingrijire si recuperare pentru copilul cu dizabilitat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23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/>
          <p:nvPr/>
        </p:nvCxnSpPr>
        <p:spPr>
          <a:xfrm flipH="1" rot="16200000">
            <a:off x="7659720" y="911520"/>
            <a:ext cx="3215160" cy="1999440"/>
          </a:xfrm>
          <a:prstGeom prst="bentConnector3">
            <a:avLst>
              <a:gd name="adj1" fmla="val -6662"/>
            </a:avLst>
          </a:prstGeom>
          <a:ln w="0">
            <a:noFill/>
          </a:ln>
        </p:spPr>
      </p:cxnSp>
      <p:cxnSp>
        <p:nvCxnSpPr>
          <p:cNvPr id="113" name=""/>
          <p:cNvCxnSpPr>
            <a:stCxn id="54" idx="2"/>
            <a:endCxn id="114" idx="3"/>
          </p:cNvCxnSpPr>
          <p:nvPr/>
        </p:nvCxnSpPr>
        <p:spPr>
          <a:xfrm flipH="1" rot="16200000">
            <a:off x="9866160" y="3183840"/>
            <a:ext cx="551520" cy="24336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54" idx="2"/>
            <a:endCxn id="116" idx="3"/>
          </p:cNvCxnSpPr>
          <p:nvPr/>
        </p:nvCxnSpPr>
        <p:spPr>
          <a:xfrm flipH="1" rot="16200000">
            <a:off x="10217160" y="2833200"/>
            <a:ext cx="551520" cy="94500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54" idx="2"/>
          </p:cNvCxnSpPr>
          <p:nvPr/>
        </p:nvCxnSpPr>
        <p:spPr>
          <a:xfrm>
            <a:off x="10020240" y="3030120"/>
            <a:ext cx="2223360" cy="558000"/>
          </a:xfrm>
          <a:prstGeom prst="straightConnector1">
            <a:avLst/>
          </a:prstGeom>
          <a:ln w="0">
            <a:noFill/>
          </a:ln>
        </p:spPr>
      </p:cxnSp>
      <p:sp>
        <p:nvSpPr>
          <p:cNvPr id="114" name=""/>
          <p:cNvSpPr/>
          <p:nvPr/>
        </p:nvSpPr>
        <p:spPr>
          <a:xfrm rot="16200000">
            <a:off x="929160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ul protecţie de tip rezidenţial in domeniul asistentei sociale a persoanelor adul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999324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lternative de tip familial si prevenirea institutionalizar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Times New Roman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114109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antisaracie, prevenirea marginalizarii sociale  si promovarea incluziunii sociale a persoanelor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107251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evaluare  protectie speciala a persoanelor adulte- Secretariat Comisie de Expertiza Medicala pentru persoane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0  / 1 / 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120967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interventie in regim de urgenta in domeniul asistentei sociale a persoanelor adulte -Telefonul Adult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54" idx="2"/>
            <a:endCxn id="120" idx="3"/>
          </p:cNvCxnSpPr>
          <p:nvPr/>
        </p:nvCxnSpPr>
        <p:spPr>
          <a:xfrm flipH="1" rot="16200000">
            <a:off x="11268720" y="1781280"/>
            <a:ext cx="551520" cy="304848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7908840" y="554976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08840" y="554976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1013472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tenta Lunge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68 / 1 / 6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0839600" y="7524720"/>
            <a:ext cx="137160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tenta Zatr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09 / 1 / 1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238256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 reabilitare neuropsihiatrica- Ba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4 / 1 / 8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13163400" y="7486560"/>
            <a:ext cx="137160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reabilitare neuropsihiatrica Maciu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6 / 1 / 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725280" y="8915760"/>
            <a:ext cx="22860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entrul judeţean de asistenţă sanitară şi famili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725280" y="9075600"/>
            <a:ext cx="25146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Monitorizare, evaluare şi protecţie a persoanelor şi familiilor aflate în dificulta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tineri proveni</a:t>
            </a:r>
            <a:r>
              <a:rPr b="0" i="1" lang="ro-RO" sz="800" spc="-1" strike="noStrike">
                <a:solidFill>
                  <a:srgbClr val="000000"/>
                </a:solidFill>
                <a:latin typeface="Arial Narrow"/>
              </a:rPr>
              <a:t>ţi din sistemul rezidenţial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protec</a:t>
            </a:r>
            <a:r>
              <a:rPr b="0" i="1" lang="ro-RO" sz="800" spc="-1" strike="noStrike">
                <a:solidFill>
                  <a:srgbClr val="000000"/>
                </a:solidFill>
                <a:latin typeface="Arial Narrow"/>
              </a:rPr>
              <a:t>ţia persoanelor şi familiilor aflate în situaţie de risc soc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/>
          <p:nvPr/>
        </p:nvCxnSpPr>
        <p:spPr>
          <a:xfrm flipH="1" rot="16200000">
            <a:off x="10990800" y="5467680"/>
            <a:ext cx="3174120" cy="3210480"/>
          </a:xfrm>
          <a:prstGeom prst="bentConnector3">
            <a:avLst>
              <a:gd name="adj1" fmla="val 38112"/>
            </a:avLst>
          </a:prstGeom>
          <a:ln w="19080">
            <a:solidFill>
              <a:srgbClr val="cc0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12725280" y="9598680"/>
            <a:ext cx="22860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rotec</a:t>
            </a:r>
            <a:r>
              <a:rPr b="0" i="1" lang="ro-RO" sz="800" spc="-1" strike="noStrike">
                <a:solidFill>
                  <a:srgbClr val="000000"/>
                </a:solidFill>
                <a:latin typeface="Arial Narrow"/>
              </a:rPr>
              <a:t>ţia persoanelor victime ale violenţei domestice şi a celor aflate în situaţie de Abuz,Neglijenta,Trafic  si Migr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725280" y="9878760"/>
            <a:ext cx="243864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sistenţă socio-medicală de îngrijire la domiciliu şi centre de zi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persoane vârstnice şi adulte cu afecţiuni cron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terapie ocupaţională şi integrare profesion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socializare persoane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54" idx="2"/>
            <a:endCxn id="119" idx="3"/>
          </p:cNvCxnSpPr>
          <p:nvPr/>
        </p:nvCxnSpPr>
        <p:spPr>
          <a:xfrm flipH="1" rot="16200000">
            <a:off x="10582920" y="2467080"/>
            <a:ext cx="551520" cy="167688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54" idx="2"/>
            <a:endCxn id="118" idx="3"/>
          </p:cNvCxnSpPr>
          <p:nvPr/>
        </p:nvCxnSpPr>
        <p:spPr>
          <a:xfrm flipH="1" rot="16200000">
            <a:off x="10926000" y="2124360"/>
            <a:ext cx="551520" cy="236268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1887200" y="6163200"/>
            <a:ext cx="2971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Asistenţă specială şi asigurarea drepturilor legale a persoanelor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887200" y="6401160"/>
            <a:ext cx="2971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Monitorizare, pregătire, testare şi evaluare asistenţi personal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19" idx="1"/>
            <a:endCxn id="135" idx="1"/>
          </p:cNvCxnSpPr>
          <p:nvPr/>
        </p:nvCxnSpPr>
        <p:spPr>
          <a:xfrm flipH="1" rot="16200000">
            <a:off x="11424240" y="5796720"/>
            <a:ext cx="735840" cy="190800"/>
          </a:xfrm>
          <a:prstGeom prst="bentConnector4">
            <a:avLst>
              <a:gd name="adj1" fmla="val 43857"/>
              <a:gd name="adj2" fmla="val -19281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19" idx="1"/>
            <a:endCxn id="136" idx="1"/>
          </p:cNvCxnSpPr>
          <p:nvPr/>
        </p:nvCxnSpPr>
        <p:spPr>
          <a:xfrm flipH="1" rot="16200000">
            <a:off x="11305080" y="5915880"/>
            <a:ext cx="973800" cy="190800"/>
          </a:xfrm>
          <a:prstGeom prst="bentConnector4">
            <a:avLst>
              <a:gd name="adj1" fmla="val 45340"/>
              <a:gd name="adj2" fmla="val -19281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12573000" y="5825160"/>
            <a:ext cx="15238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Asistenţă socială şi relaţii cu ONG-u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18" idx="1"/>
            <a:endCxn id="139" idx="1"/>
          </p:cNvCxnSpPr>
          <p:nvPr/>
        </p:nvCxnSpPr>
        <p:spPr>
          <a:xfrm flipH="1" rot="16200000">
            <a:off x="12278880" y="5627880"/>
            <a:ext cx="397800" cy="19080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 rot="16200000">
            <a:off x="7467480" y="4267080"/>
            <a:ext cx="194328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- Telefonul Copilulu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53" idx="2"/>
            <a:endCxn id="141" idx="3"/>
          </p:cNvCxnSpPr>
          <p:nvPr/>
        </p:nvCxnSpPr>
        <p:spPr>
          <a:xfrm flipH="1" rot="16200000">
            <a:off x="6798600" y="1940400"/>
            <a:ext cx="633600" cy="26485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53" idx="2"/>
            <a:endCxn id="67" idx="3"/>
          </p:cNvCxnSpPr>
          <p:nvPr/>
        </p:nvCxnSpPr>
        <p:spPr>
          <a:xfrm flipH="1" rot="16200000">
            <a:off x="6408000" y="2331000"/>
            <a:ext cx="633600" cy="18673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53" idx="2"/>
            <a:endCxn id="66" idx="3"/>
          </p:cNvCxnSpPr>
          <p:nvPr/>
        </p:nvCxnSpPr>
        <p:spPr>
          <a:xfrm flipH="1" rot="16200000">
            <a:off x="6064920" y="2673720"/>
            <a:ext cx="633600" cy="11815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7162920" y="10592280"/>
            <a:ext cx="19810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onsiliere pentru copil Abuzat,Neglijat, Exploata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62920" y="10363680"/>
            <a:ext cx="27432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Recuperare medico-sociala a copilului Abuzat, Neglijat, Exploatat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2430360"/>
            <a:ext cx="1523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sistenţă,  protecţie si reintegrare tineri în dificult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47" idx="1"/>
            <a:endCxn id="147" idx="1"/>
          </p:cNvCxnSpPr>
          <p:nvPr/>
        </p:nvCxnSpPr>
        <p:spPr>
          <a:xfrm flipV="1" rot="10800000">
            <a:off x="1218960" y="1939320"/>
            <a:ext cx="6515280" cy="770400"/>
          </a:xfrm>
          <a:prstGeom prst="bentConnector3">
            <a:avLst>
              <a:gd name="adj1" fmla="val 103558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9677520" y="9907920"/>
            <a:ext cx="205740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6407280"/>
            <a:ext cx="1523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rv. Medico-soc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00"/>
                </a:solidFill>
                <a:latin typeface="Times New Roman"/>
              </a:rPr>
              <a:t>8 / 1 / 7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60958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342720" y="7581600"/>
            <a:ext cx="13716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rviciul  de primire in regim de urgenta a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5 / 1 / 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914400" y="7467480"/>
            <a:ext cx="13716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ff"/>
                </a:solidFill>
                <a:latin typeface="Times New Roman"/>
              </a:rPr>
              <a:t>PIN 1/2005-VL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rviciul de integrare socioprofesionala a  tinerilor din sistemul .de protec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1 /1 /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8953560" y="758196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entrul de zi pt.recuperare neuromotorie -Ba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3 / 1 / 1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10515600"/>
            <a:ext cx="2286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0" y="10134720"/>
            <a:ext cx="0" cy="5331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0" y="10667880"/>
            <a:ext cx="2286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3124080" y="746748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PIN 2  / 2005 -VL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 familial pt.copil cu dizabilitat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Gora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Arial Narrow"/>
              </a:rPr>
              <a:t>58 / 1 / 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5063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2019240" y="925848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Materna”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roia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 15 / 1 /  14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1162044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rntrul de Ingrijire si asisten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ausesti Maglas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8 / 1 / 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8205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3444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210680" y="6858000"/>
            <a:ext cx="3657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8682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028840" y="5867280"/>
            <a:ext cx="1522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5520" y="4495680"/>
            <a:ext cx="7596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81480" y="4495680"/>
            <a:ext cx="0" cy="16002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028840" y="6095880"/>
            <a:ext cx="1522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2133720"/>
            <a:ext cx="0" cy="1522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91320" y="2286000"/>
            <a:ext cx="8229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209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61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2666880"/>
            <a:ext cx="0" cy="38862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33526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90720" y="411480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90720" y="46483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51055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90720" y="56386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65530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210680" y="5486400"/>
            <a:ext cx="0" cy="13716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1824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501360" y="632160"/>
            <a:ext cx="9748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exa nr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944600" y="816480"/>
            <a:ext cx="1600200" cy="19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.Aparat propriu = 158 (din care)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944600" y="1192680"/>
            <a:ext cx="1600200" cy="19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.DPC (centre plasament copii) = 6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944600" y="1599120"/>
            <a:ext cx="1600200" cy="19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.AMP = 4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020920" y="1852560"/>
            <a:ext cx="14475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Total Gener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65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635040"/>
            <a:ext cx="2133720" cy="4374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3333cc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GANIGRA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.G.A.S.P.C. VALCEA-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6858000"/>
            <a:ext cx="213336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197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2485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960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81880" y="6858000"/>
            <a:ext cx="0" cy="22860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90720" y="6477120"/>
            <a:ext cx="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952488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combatrerea violentei domest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2106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43200" y="8610480"/>
            <a:ext cx="11430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8610480"/>
            <a:ext cx="0" cy="15264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76720" y="8610480"/>
            <a:ext cx="0" cy="15264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6200" y="8610480"/>
            <a:ext cx="0" cy="15264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8458200"/>
            <a:ext cx="0" cy="15228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677520" y="10058400"/>
            <a:ext cx="220968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RESEDINT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umitru B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106520" y="556272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106520" y="5791320"/>
            <a:ext cx="1752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859000" y="5791320"/>
            <a:ext cx="0" cy="8380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4478120" y="6629400"/>
            <a:ext cx="3808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8120" y="6629400"/>
            <a:ext cx="0" cy="4572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6200000">
            <a:off x="13830120" y="7505640"/>
            <a:ext cx="13716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terventie in regim de urgenta pt.persoane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142640" y="6858000"/>
            <a:ext cx="38862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344400" y="1600200"/>
            <a:ext cx="1371600" cy="571680"/>
          </a:xfrm>
          <a:prstGeom prst="rect">
            <a:avLst/>
          </a:prstGeom>
          <a:solidFill>
            <a:srgbClr val="ccccff">
              <a:alpha val="50000"/>
            </a:srgbClr>
          </a:solidFill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Asistenta Medico-sociala Ladesti -Va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096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10167840"/>
            <a:ext cx="27432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 pt. copil care a savirsit o fapta penala si nu raspunde penal  =</a:t>
            </a: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PIN 3 / 2005-VL *-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 pt. copil repatriat  =</a:t>
            </a: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47920" y="8839080"/>
            <a:ext cx="0" cy="16765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47920" y="10363320"/>
            <a:ext cx="15228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47920" y="10515600"/>
            <a:ext cx="15228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9677160" y="6858000"/>
            <a:ext cx="5331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67752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746748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de consilier parinti / copi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2</a:t>
            </a:r>
            <a:r>
              <a:rPr b="0" lang="en-US" sz="800" spc="-1" strike="noStrike">
                <a:solidFill>
                  <a:srgbClr val="3333cc"/>
                </a:solidFill>
                <a:latin typeface="Arial Narro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248520" y="8610480"/>
            <a:ext cx="19047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5328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24852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3432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4380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86600" y="8458200"/>
            <a:ext cx="0" cy="15228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066320" y="8839080"/>
            <a:ext cx="38124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6200" y="8458200"/>
            <a:ext cx="0" cy="76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8534520"/>
            <a:ext cx="609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6200000">
            <a:off x="3848040" y="925848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zi de recuperare neuromotorie -Rm. Va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Times New Roman"/>
              </a:rPr>
              <a:t>(13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853452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66680" y="8458200"/>
            <a:ext cx="0" cy="3808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296280" y="1905120"/>
            <a:ext cx="304812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277720" y="1543680"/>
            <a:ext cx="10666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Unitate cu personalitate jurid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4300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277720" y="1951920"/>
            <a:ext cx="9903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Coordonare metodolog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2420720" y="8686800"/>
            <a:ext cx="1752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420720" y="8686800"/>
            <a:ext cx="0" cy="12952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420720" y="899172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420720" y="914400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420720" y="967752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420720" y="99820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801600" y="9067680"/>
            <a:ext cx="18288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877920" y="9220320"/>
            <a:ext cx="22860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801600" y="9753480"/>
            <a:ext cx="20574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801600" y="10058400"/>
            <a:ext cx="22860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944600" y="1400760"/>
            <a:ext cx="1600200" cy="19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.DAS (centre ingrijire adulti) = 457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944600" y="1019880"/>
            <a:ext cx="1600200" cy="17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36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 conducere =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325480" y="628560"/>
            <a:ext cx="83844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Numar postur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06:28:25Z</dcterms:created>
  <dc:creator>Win98</dc:creator>
  <dc:description/>
  <dc:language>en-US</dc:language>
  <cp:lastModifiedBy>Angela</cp:lastModifiedBy>
  <cp:lastPrinted>2006-01-17T10:50:46Z</cp:lastPrinted>
  <dcterms:modified xsi:type="dcterms:W3CDTF">2006-01-25T11:48:38Z</dcterms:modified>
  <cp:revision>94</cp:revision>
  <dc:subject/>
  <dc:title>No Slide Title</dc:title>
</cp:coreProperties>
</file>